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A75-CAFD-417A-8511-BF382F5E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BE9-590A-466C-9232-84E5499A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267-1127-4B83-A818-C39E6BDE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B7E-3B0F-423E-9504-4A717EBC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470-1FA4-4769-BD35-9A31AD1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767-C708-4242-8B16-DCD30BAE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282-B14A-4CC3-8CE6-762595E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C26-6000-429C-B357-27AF471E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1B6-7412-4785-906A-27E083B6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E43-7C2D-4230-8C59-DBC44E66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8A0-51EE-4D6F-8786-5B634028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728-E2BC-4369-8BE1-FE0768BD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710C-2868-44C7-829E-57CC2E163B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592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UD 7: PARTE SÓLIDA DE LA TIERRA.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Comic Sans MS"/>
              </a:rPr>
              <a:t>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628640"/>
            <a:ext cx="1728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MIN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2682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sólidos homogéneos, inorgánicos y de origen natural, con una composición química definida y una disposición atómica orden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56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ól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irme, macizo, fuerte, d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200" y="29732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géne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mposición y estructura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5373720"/>
            <a:ext cx="882036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un material de la Corteza terrestre caracterizado por su composición química y su estructura in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4034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orgán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in órganos para l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7080" y="378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igen natur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oduce sin presencia del se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19580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osición química defini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uarzo-SI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189000"/>
            <a:ext cx="662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RACTERÍSTICAS DE LOS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981000"/>
            <a:ext cx="835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cuentra en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turalez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decir, no está fabr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628640"/>
            <a:ext cx="835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una estructura geométrica fija, por tanto 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óli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170080"/>
            <a:ext cx="8353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osición química defini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decir, los minerales están formados por la combinación de unos o varios elementos químicos en proporciones fijas. (cuarz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5770440"/>
            <a:ext cx="172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MIN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5410080"/>
            <a:ext cx="712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sólidos homogéneos, inorgánicos y de origen natural, con una composición química definida y una disposición atómica orden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429000"/>
            <a:ext cx="8893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een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ructura crista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 que quiere decir que las partículas que lo constituyen están ordenadas en 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29264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472428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4437000"/>
            <a:ext cx="7416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enación se ve: microscopio, lupa a simple vista: Mineral se denomi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2746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APARIENCIA DE LOS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9223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sificar los miner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emos de tener en cuenta las siguient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2349360"/>
            <a:ext cx="3097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DURE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DIAFA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EXFOL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MAGNET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R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90560" y="2350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APARIENCIA DE LOS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055520"/>
            <a:ext cx="712800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zufr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color ama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Ye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varios colores (rosa, lechoso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73272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1516320" cy="172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35226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BRIL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etálico, No metálico, Vítreo, Nacardo y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20100607121545-plata-mineral" descr=""/>
          <p:cNvPicPr/>
          <p:nvPr/>
        </p:nvPicPr>
        <p:blipFill>
          <a:blip r:embed="rId3"/>
          <a:srcRect l="0" t="3193" r="5468" b="25672"/>
          <a:stretch/>
        </p:blipFill>
        <p:spPr>
          <a:xfrm>
            <a:off x="250920" y="4005360"/>
            <a:ext cx="2073240" cy="226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7280" y="6130800"/>
            <a:ext cx="208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411280" y="400536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48000" y="6165720"/>
            <a:ext cx="208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SILOME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2448000" cy="2295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1440" y="6165720"/>
            <a:ext cx="208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7236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39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948360" y="4292640"/>
            <a:ext cx="2087640" cy="1965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056360" y="6093000"/>
            <a:ext cx="1908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Q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59240" cy="4753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3747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UREZ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Resistencia que opone la superficie de un mineral a ser rayado por o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1173240"/>
            <a:ext cx="41767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uy blan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e 1 a 2 en l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cala de Moh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cuando el mineral se ray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con la uñ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lan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e 2 a 3) cuando se raya con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vo de hier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midu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e 3 a 5) cuando se raya con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vaj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ur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de 5 a 7) cuando se raya con el cristal o con un punzón de a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uy du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e 7 a 10) cuando el mineral raya el cris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692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AFAN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1253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ar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ejan pasar la luz y se distinguen los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00360" y="1546200"/>
            <a:ext cx="27352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508720" y="19890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5772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lú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ejan pasar la luz pero no se distinguen los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27640" y="3357720"/>
            <a:ext cx="1557360" cy="170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4724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a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no permiten el paso de la luz a través de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700360" y="5157720"/>
            <a:ext cx="1944720" cy="153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45080" y="57340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s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260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XFOLI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441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AGNE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7973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iedad que presentan algunos minerales de ser atraídos por un i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1867" t="30770" r="8138" b="17945"/>
          <a:stretch/>
        </p:blipFill>
        <p:spPr>
          <a:xfrm>
            <a:off x="3995640" y="5229360"/>
            <a:ext cx="2881440" cy="1441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48360" y="57340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6620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ilidad con que los minerales se parten a lo largo de ciertos pl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4105440" cy="276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19640" y="2205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ca – Se rompe en finas lám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0360" y="235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Comic Sans MS"/>
              </a:rPr>
              <a:t>MENA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: MATERIALES ÚTILES PARA EL SE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83664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s cuando un mineral contiene cantidades aprovechables de algún elemento químico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097440" cy="245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40000" y="3141720"/>
            <a:ext cx="576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227664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matites – Hierro (F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[Calcopirita+Erubescita+(Francia).JPG]"/>
          <p:cNvPicPr/>
          <p:nvPr/>
        </p:nvPicPr>
        <p:blipFill>
          <a:blip r:embed="rId2"/>
          <a:stretch/>
        </p:blipFill>
        <p:spPr>
          <a:xfrm>
            <a:off x="826920" y="429264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95640" y="46879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copirita – Cobre (C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4724280"/>
            <a:ext cx="576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45072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INERALES QUE SE USAN EN JOY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26828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MA O PIEDRA PRECI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ineral que se emplea en la joyería. Son minerales muy apreciados por se color, rareza y cualidades óp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3 Esmeraldas"/>
          <p:cNvPicPr/>
          <p:nvPr/>
        </p:nvPicPr>
        <p:blipFill>
          <a:blip r:embed="rId1"/>
          <a:srcRect l="38279" t="0" r="40669" b="33783"/>
          <a:stretch/>
        </p:blipFill>
        <p:spPr>
          <a:xfrm>
            <a:off x="4643280" y="2060640"/>
            <a:ext cx="892440" cy="129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80000" y="2349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meral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42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IND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ineral que carece de color en forma pura, contiene impurezas de cr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R32.jpg (26672 bytes)"/>
          <p:cNvPicPr/>
          <p:nvPr/>
        </p:nvPicPr>
        <p:blipFill>
          <a:blip r:embed="rId2"/>
          <a:stretch/>
        </p:blipFill>
        <p:spPr>
          <a:xfrm>
            <a:off x="4932360" y="3933720"/>
            <a:ext cx="1512720" cy="139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43640" y="4292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ub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53737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ALES NOB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mo el oro y la pl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04000" y="5257800"/>
            <a:ext cx="1271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5:38:34Z</dcterms:created>
  <dc:creator>Ana Castaño</dc:creator>
  <dc:description/>
  <dc:language>en-US</dc:language>
  <cp:lastModifiedBy>Ana</cp:lastModifiedBy>
  <dcterms:modified xsi:type="dcterms:W3CDTF">2011-11-20T19:59:10Z</dcterms:modified>
  <cp:revision>33</cp:revision>
  <dc:subject/>
  <dc:title>PowerPoint Presentation</dc:title>
</cp:coreProperties>
</file>